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C44-20E3-44EB-9900-1F93130E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420-F97F-4F90-8C15-0E0C6952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A26-0116-4FA8-A7A6-5322E41A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B95-DE2A-4D11-A76B-8A198EB0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221F-6CFB-422C-B554-FF74DA42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B8B8-F190-4F16-91DF-09579E8C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71AC-12D2-481B-AB15-0BF9A5D8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93A3-2001-4492-86B3-E4DAFE56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5F9-806F-4B99-90AB-1924153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88DE-CA4F-44FF-8ED9-BA0CB4D5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900-E2A5-4820-815E-78BCF0B7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2D2-D465-4A12-A9A8-FC98DAF7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2CC4-75F2-4273-A543-9193775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13AA-D422-4FB3-8B45-CF612CD6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22F-6B3B-4208-A26E-6C5BB0C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A1D4-7DCF-477B-A7D6-A2F5865E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CB56-1252-40E6-9315-683AD487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7315-37B6-471E-B8D7-2DF73A36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E4BF-A8E9-438C-AC30-AB32E368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C4049-47A1-41B5-B466-61720B6E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A357-7E8D-4B70-9156-A3EE8EA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AE57-9213-4622-9111-44709176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385-43E6-4893-8F99-725A2203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EA05-8CA8-41A5-BE6F-DADF5913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2BFB-5B7A-4D0D-85C0-89DC84C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9EE0-6FDC-4AFC-B275-F9301C18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0396-32C6-4B17-8ADD-F1555EF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29DF-8FE2-4BE7-A89C-48C99F4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C4AA-07F5-4227-A9C3-AE2AADDA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03A7-13DC-4A5E-8F54-FB1BD2B4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798F4-2411-4E97-BF4A-85D62499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F179-1F00-4DD3-A0F9-C45519BC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0926-C8BC-4CC3-A93D-D5F1E772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450-A9CA-4D31-9CE5-7F2B4F6F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0E0D-33C1-4E9B-A66C-8758EE7D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0CA31-111C-473F-AC62-DDFC3616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DFAF-0699-4696-9D1B-344BD1B2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4665D-E9DA-49E3-BD8D-153D5C8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5C68-2929-4BB5-9842-A61D881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474E-8EB6-40B7-9E28-4661D23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3D79-4B53-4B9D-B8C0-E91DDD2F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6138-EE69-4A48-A7B6-E987A677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9B757-77B5-402D-AF21-0F160D8D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4E8C6-357E-4211-A1B9-6C299008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DFC-7924-40D2-8234-40369CFC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F10E9-B055-493B-9792-2CF942AC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4EA27-5BCA-4275-9C22-924DA587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1D66-EA78-4E84-9237-5C536B2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0688-46D9-4A8E-927F-6AC55F94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8383-88FD-449F-B247-9A19416D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B7F6-6059-4CD0-A964-DB8376CD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570C-B100-418B-A107-6568220F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E7A3-1EBE-4498-9266-E99978E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D5F48-87F3-42D6-B0F4-59FE3074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4BEDE-13B7-4B15-BC86-AF8AC58F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33B-F85E-4DDB-A097-335F9145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6396-CFCF-4641-BC98-4F652357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F89DB-2E16-49E2-BB27-C09448B3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D090-E465-4871-99A7-82A427E0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0FCF-CA12-4548-AEAC-2B4C260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31DF6-EDE9-4B84-9BDE-35B5BC0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7B13-70EF-4292-AD5F-486C6435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453E-81CB-40BB-803E-2B09150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A581-32E8-455C-96F6-B80E8F9C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A24F2-F0F8-4223-B561-07486DFC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988CB-7F10-4348-9EB1-C7EFD344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424-35BE-4F9E-8092-EF4930D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5A5AD-F300-47E4-9FC0-12F63B20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FF058-1DC4-43F8-B510-427E66E0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DBCC-62B7-4115-96F3-B3E082F8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58FA-3995-4651-A365-1CDED89F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AD20B-D82D-4AC9-8E23-B2B5791B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F82D3-900F-40AC-B521-80A87CA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498A6-1621-4846-BF8E-18A4C4C8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1EF11-0FFC-4AD4-8E5B-EA52E357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D023-3EFD-4DF6-9EC9-1954441E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3193F-D1E7-49B7-9A13-AFCDB8E7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41B-3223-46FD-8C8E-6624A17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BEA12-CF45-4D33-9BCF-624C583F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377C6-174E-4C8E-9599-24F3D2B0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60459-3981-4ADD-86CA-D4FC7570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261C-CADF-4092-BCF7-7BC113CA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0F0B9-9DE8-4499-A773-8DE322EC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694AD-19DD-4615-8D56-AFD96640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50A9B-D864-42E6-A93E-30192CFC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AF8D3-5B0D-4E07-AE38-853A901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11A09-429A-4A81-AF3A-EF2CC493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AD601-ACDB-400A-B366-059C8DFB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E71-DFBA-4C39-9941-FA17EFAD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6388-1E95-40B2-9804-25D77701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B9378-ED9B-4EE4-BC9F-9260D19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CEA1C-35E2-49AC-BD41-671CE65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C7491-C77E-4148-8750-CE2CC7D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94C0D-D456-4852-B8E1-6BA117C9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6EA4-B577-45E9-B003-B3CACAB5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5FC2F-6E2A-4C7E-89FB-B522B0E3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B18D-65CF-4D10-A259-BD287BFCF3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E42A-F99B-4F58-863A-8A428BC17D2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BEB6-C087-4625-B09D-D87CCAB4D99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C613-1FEC-4A9B-A519-5A419ED775B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453-83FD-4DD8-8500-FCCD6B09A6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87D-D470-4DBE-9062-8BEAC56970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21A0-63F9-4E95-B94D-48CC4CF8C36C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9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DD2-96D0-47CD-8DEF-13D75AFA7AD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inbiao5.com/" TargetMode="External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11280" y="2133720"/>
            <a:ext cx="4032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音 标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65300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 Black"/>
                <a:hlinkClick r:id="rId2"/>
              </a:rPr>
              <a:t>www.yinbiao5.com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为您收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55640" y="476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成音节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-----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辅音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m] [n] [l]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在词尾时，如果它们前面没有元音而只有辅音时，它们可以跟前面的辅音拼起来成为一个音节，叫成音节。成音节当元音使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2852640"/>
            <a:ext cx="3313080" cy="3547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lesson [ 'le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s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table [ 'tei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b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model [ 'mɔ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d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Briton [ 'bri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t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garden [ 'ga: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d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4720" y="2852640"/>
            <a:ext cx="4390920" cy="342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people [ 'pi: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p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pencil [ 'pen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s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awful [ 'ɔ: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f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可怕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rattle [ 'ræ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t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 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喋喋不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Marxism ['ma:ksi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zm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771640" y="260280"/>
            <a:ext cx="3384720" cy="764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黑体"/>
              </a:rPr>
              <a:t>练 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1557360"/>
            <a:ext cx="8137440" cy="14450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bi:t]   [ga:b]   [dæʃ]   ['eiʃ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  [bæŋk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ti:k]    [g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ʌ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t]    [tu:</a:t>
            </a:r>
            <a:r>
              <a:rPr b="1" lang="el-GR" sz="3200" spc="-1" strike="noStrike">
                <a:solidFill>
                  <a:srgbClr val="660066"/>
                </a:solidFill>
                <a:latin typeface="Arial"/>
              </a:rPr>
              <a:t>θ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 ['meʒ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[riŋ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3789360"/>
            <a:ext cx="8281800" cy="13842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trai]       [tr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ʌk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 ['tʃain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[tʃi:p]    [si:ts]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draiv]    [drʌg]    [d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黑体"/>
              </a:rPr>
              <a:t>ӡ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ɔb]     [d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黑体"/>
              </a:rPr>
              <a:t>ӡ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ʌd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黑体"/>
              </a:rPr>
              <a:t>ӡ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[b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黑体"/>
              </a:rPr>
              <a:t>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:dz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566440" y="1484280"/>
            <a:ext cx="42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闭音节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---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以一个或几个辅音字母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除外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结尾的音节叫闭音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67680" y="314172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黑体"/>
              </a:rPr>
              <a:t>pen    not     black     friend     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332000" y="1052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Arial"/>
                <a:ea typeface="黑体"/>
              </a:rPr>
              <a:t>世上无难事，只怕有心人！只要我们用心学习、用心记忆，反复练习，就一定能把英语音标学好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11280" y="112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英语单词由字母组成。英语字母共有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个，且有大、小写两种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95640" y="4046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一、字  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2421000"/>
            <a:ext cx="820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A a    B b    C c     D d     E e     F f      G 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H h    I i       J j      K k      L l      M m   N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O o    P p    Q q     R r      S s     T t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U u    V v     W w    X x     Y y     Z 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55736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78480" y="1125360"/>
            <a:ext cx="13993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字  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68360" y="765000"/>
            <a:ext cx="51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、元音字母 （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个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a   e   i   o  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95640" y="2492280"/>
            <a:ext cx="6624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、辅音字母 （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21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b     c      d      f      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h     j       k      l       m   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p     q      r      s      t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v     w     x      y      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19280" y="105264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551664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注：辅音字母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y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有时也作元音字母使用，发音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i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相同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11280" y="54936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英语单词是由元音字母和辅音字母一起构成的，而元音字母是构成单词的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基本要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。有时一个元音字母可以单独构成一个单词，如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I 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我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，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a 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一个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等。但辅音字母不能单独构成单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英语单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87640" y="3789360"/>
            <a:ext cx="230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元音字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辅音字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400536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194292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、音 素、音 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341360"/>
            <a:ext cx="7777080" cy="19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英语字母虽然有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26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，但由它们发出的音却有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48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。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48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音就是英语的音素。音素是语音的最小单位。记录音素的工具就是音标。音标是音素的标音符号，是记音的工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大多数音标与小写字母形状相同，为了避免混淆，我们一律把音标写在方括号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  ]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95280" y="2133720"/>
            <a:ext cx="122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(48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557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 Black"/>
              </a:rPr>
              <a:t>元音</a:t>
            </a:r>
            <a:r>
              <a:rPr b="1" lang="zh-CN" sz="1800" spc="-1" strike="noStrike">
                <a:solidFill>
                  <a:srgbClr val="660066"/>
                </a:solidFill>
                <a:latin typeface="Arial Black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2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40360" y="1268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单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12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206064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双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8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72360" y="9079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长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5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43640" y="1628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短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7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24360" y="148428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112536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24000" y="378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辅音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(28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84720" y="342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清辅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11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84720" y="42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浊辅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8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068720" y="364500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1916280"/>
            <a:ext cx="431640" cy="2089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588000" y="3429000"/>
            <a:ext cx="1930680" cy="3068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1765440" cy="15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9280" y="2133720"/>
            <a:ext cx="8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元 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3333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单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12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27280" y="1628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双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8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68360" y="549360"/>
            <a:ext cx="287640" cy="1295280"/>
          </a:xfrm>
          <a:custGeom>
            <a:avLst/>
            <a:gdLst>
              <a:gd name="textAreaLeft" fmla="*/ 183960 w 287640"/>
              <a:gd name="textAreaRight" fmla="*/ 288000 w 287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2000" y="3789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辅 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627280" y="321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清辅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11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56000" y="4221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浊辅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8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68360" y="364500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42920" y="1268280"/>
            <a:ext cx="289080" cy="2665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56000" y="83664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i:] [ i ] [e] [</a:t>
            </a: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黑体"/>
              </a:rPr>
              <a:t>æ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u:] [u] [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:] [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:] [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a:] [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ʌ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213372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 ei ] [ ai ] [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i ] [ au ] [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u ] [ i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 ] [ </a:t>
            </a:r>
            <a:r>
              <a:rPr b="1" lang="el-GR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ε</a:t>
            </a:r>
            <a:r>
              <a:rPr b="1" lang="ru-RU" sz="2800" spc="-1" strike="noStrike">
                <a:solidFill>
                  <a:srgbClr val="000099"/>
                </a:solidFill>
                <a:latin typeface="Palatino Linotype"/>
              </a:rPr>
              <a:t>ә</a:t>
            </a:r>
            <a:r>
              <a:rPr b="1" lang="zh-CN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 u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27280" y="3645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p] [t] [k] [f] [s] [</a:t>
            </a:r>
            <a:r>
              <a:rPr b="1" lang="el-GR" sz="2400" spc="-1" strike="noStrike">
                <a:solidFill>
                  <a:srgbClr val="000099"/>
                </a:solidFill>
                <a:latin typeface="Arial"/>
              </a:rPr>
              <a:t>θ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ʃ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h] [ tʃ] [tr] [t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4724280"/>
            <a:ext cx="61200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b] [d] [g] [v] [z] [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ð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</a:t>
            </a:r>
            <a:r>
              <a:rPr b="1" lang="zh-CN" sz="2400" spc="-1" strike="noStrike">
                <a:solidFill>
                  <a:srgbClr val="000099"/>
                </a:solidFill>
                <a:latin typeface="MS Gothic"/>
                <a:ea typeface="MS Gothic"/>
              </a:rPr>
              <a:t>ʒ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 ] [ l ] [d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ӡ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dr] [dz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m] [n] [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ŋ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w] [ j ] [ r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55640" y="141300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元 音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----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发音时声带振动，气流在口腔内不受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阻碍。如：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[ i: ] [ i ] [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æ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] [ e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068640"/>
            <a:ext cx="806436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辅 音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-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发音时气流在口腔内受到阻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清辅音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发音时声带不振动。如：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[ p ]  [ t ] [ k ]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浊辅音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发音时声带振动。    如：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[ b ] [ d ] [ g 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84360" y="18900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发音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981000"/>
            <a:ext cx="2374920" cy="0"/>
          </a:xfrm>
          <a:prstGeom prst="line">
            <a:avLst/>
          </a:prstGeom>
          <a:ln cap="rnd" w="5724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4221000"/>
            <a:ext cx="144720" cy="576360"/>
          </a:xfrm>
          <a:custGeom>
            <a:avLst/>
            <a:gdLst>
              <a:gd name="textAreaLeft" fmla="*/ 92520 w 144720"/>
              <a:gd name="textAreaRight" fmla="*/ 14508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856800" y="2492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开音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40000" y="836640"/>
            <a:ext cx="71280" cy="2665440"/>
          </a:xfrm>
          <a:custGeom>
            <a:avLst/>
            <a:gdLst>
              <a:gd name="textAreaLeft" fmla="*/ 45720 w 71280"/>
              <a:gd name="textAreaRight" fmla="*/ 71640 w 712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51160" y="62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绝对开音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24240" y="2997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相对开音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76760" y="1341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（在元音字母后面没有辅音字母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42920" y="2060640"/>
            <a:ext cx="41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go   be     me      do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70920" y="3789360"/>
            <a:ext cx="358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在元音字母后有一个辅音字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r”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除外，还有一个不发音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字母  “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e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51480" y="543564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name     time     base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3:34:49Z</dcterms:created>
  <dc:creator>JUJUMAO</dc:creator>
  <dc:description/>
  <dc:language>en-US</dc:language>
  <cp:lastModifiedBy>Microsoft</cp:lastModifiedBy>
  <dcterms:modified xsi:type="dcterms:W3CDTF">2013-12-14T01:16:10Z</dcterms:modified>
  <cp:revision>64</cp:revision>
  <dc:subject/>
  <dc:title>幻灯片 1</dc:title>
</cp:coreProperties>
</file>