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F765-6776-44B4-A11F-CA5E79D5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0ECB-C00F-4023-B410-545AD304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74A6-779F-4942-B942-81B8A9B1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7094-01DB-421A-AE2B-24760D387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9922-9FAA-4756-AFE2-860CC92B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6DD1-F89B-487C-99A2-5FB6D7AD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EFD2-D537-4EDD-A8DD-FECF5861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DDFF-978B-4218-8426-62E8CC25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C08D-B103-4520-B627-75A652B2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9923-1CB1-498F-AB5E-5F7339B1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FEA3-C4E0-444B-B6D0-5D19F6AB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05ED-7D0B-4F84-8AAE-FB09C080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1F64-AD53-4EE8-8F26-B7BCB0F3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185F-D30A-43EA-9D87-4AE13271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FBEB-ECFC-4197-B9A8-DA95B461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D6A6-DA60-4BB5-9F0C-FC990443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778F-BDB9-41BE-900B-4CFDE5B5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1035-C1B8-4C43-A2B6-729513C3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F987-5941-4C7A-8795-F5D4F7B8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B8E5-F079-4496-8091-96002AD3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DB1F-AE34-4797-A777-84930E18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AE75-FA5C-467F-B9C4-1A31BE3D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060A-0B35-442E-963B-617C69DE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8ABE-701B-4A1C-B79D-4232AA03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7B55-A94D-498E-A237-9BF928761700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11E4-2480-4ECB-A8A8-F3BF1E64D140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7572"/>
                </a:solidFill>
                <a:latin typeface="Arial"/>
              </a:rPr>
              <a:t>26</a:t>
            </a:r>
            <a:r>
              <a:rPr b="1" lang="zh-CN" sz="8000" spc="-1" strike="noStrike">
                <a:solidFill>
                  <a:srgbClr val="007572"/>
                </a:solidFill>
                <a:latin typeface="Arial"/>
              </a:rPr>
              <a:t>个字母发音规律</a:t>
            </a:r>
            <a:endParaRPr b="0" lang="en-US" sz="8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e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elephant egg bed pe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F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f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fine friend fly foot fa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G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2441520"/>
            <a:ext cx="854064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ɡ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gun glass glad glove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G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dз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age  orang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H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/h/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hat he house han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ai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fine bike  five  ic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i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is sit miss pig pictur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dз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jeep jam jacket ja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K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k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kite cake black thank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2628720"/>
            <a:ext cx="8540640" cy="32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l/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前音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leg left ruler flag lamp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l/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尾音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apple bowl tell ol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M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m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am map my mouth milk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640" cy="29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Lesson on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/n/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no know new han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əu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old home nose cok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ɔ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dog not clock box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∧ 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son month mother lov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P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p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map jeep pig pen appl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kw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quite quilt quick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K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R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r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red radio brother racke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s/s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sit miss this smile book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z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nose those rose ruler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/t/ it sit not that table littl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U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/ju: / use usually excus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/∧ / bus us sun duck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/ u / put  pull  pus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V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v 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five vase very seve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51125"/>
                </a:solidFill>
                <a:latin typeface="Arial"/>
              </a:rPr>
              <a:t> </a:t>
            </a:r>
            <a:r>
              <a:rPr b="1" lang="zh-CN" sz="9600" spc="-1" strike="noStrike">
                <a:solidFill>
                  <a:srgbClr val="651125"/>
                </a:solidFill>
                <a:latin typeface="Arial"/>
              </a:rPr>
              <a:t>a</a:t>
            </a:r>
            <a:endParaRPr b="0" lang="en-US" sz="9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/ei/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 name  cake   table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/æ/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 apple cat  map  am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/α: / 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dance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/ɔ /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  what  watch want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W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w/w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we window watch wan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x/ks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box  six  fox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ai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my fly why by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j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yes  yellow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i 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happy baby very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plus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Z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z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zoo   zero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720433"/>
                </a:solidFill>
                <a:latin typeface="Arial"/>
              </a:rPr>
              <a:t>元音组合</a:t>
            </a:r>
            <a:endParaRPr b="0" lang="en-US" sz="9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ai  /ei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wait  paint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ay /ei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may play day say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572"/>
                </a:solidFill>
                <a:latin typeface="Arial"/>
              </a:rPr>
              <a:t>air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εə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air hair chai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572"/>
                </a:solidFill>
                <a:latin typeface="Arial"/>
              </a:rPr>
              <a:t>al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ɔ: 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all small bal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ar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α: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farther farm car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572"/>
                </a:solidFill>
                <a:latin typeface="Arial"/>
              </a:rPr>
              <a:t>ea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i: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meat please tea rea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e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head bread ready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iə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theate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7572"/>
                </a:solidFill>
                <a:latin typeface="Arial"/>
              </a:rPr>
              <a:t>B[b]</a:t>
            </a:r>
            <a:endParaRPr b="0" lang="en-US" sz="8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book big   bag box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ear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iə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ear  hear  nea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εə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bea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9680" y="3141720"/>
            <a:ext cx="21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/ ə: /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eart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e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i: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meet see bee feet jeep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eir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εə 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hei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er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ə 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worker teacher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ə: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he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572"/>
                </a:solidFill>
                <a:latin typeface="Arial"/>
              </a:rPr>
              <a:t>er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i ə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here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εə 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where ther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ew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ju: 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new  few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u: 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flew  grew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igh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ai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right high brigh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ir /ə: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bird girl shirt thirty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oa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əu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boat co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7572"/>
                </a:solidFill>
                <a:latin typeface="Arial"/>
              </a:rPr>
              <a:t>C</a:t>
            </a:r>
            <a:r>
              <a:rPr b="1" lang="zh-CN" sz="6000" spc="-1" strike="noStrike">
                <a:solidFill>
                  <a:srgbClr val="007572"/>
                </a:solidFill>
                <a:latin typeface="Arial"/>
              </a:rPr>
              <a:t>[k]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cat cake cup clock car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ong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ɔŋ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long  song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oo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/u/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book foot good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/u:/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moon balloo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572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ɔ: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short fork por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ə: 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word world work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oor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/ɔ: /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door  floor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ore /ɔ:/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more store sor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ou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au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out house mout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auə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ou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ow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əu 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bowl  window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/au /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now cow flowe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oy /ɔi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boy  toy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ur / ə: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tur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辅音组合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th /θ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thank  mout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ð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his that wit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7572"/>
                </a:solidFill>
                <a:latin typeface="Arial"/>
              </a:rPr>
              <a:t>C </a:t>
            </a:r>
            <a:r>
              <a:rPr b="1" lang="en-US" sz="4400" spc="-1" strike="noStrike">
                <a:solidFill>
                  <a:srgbClr val="007572"/>
                </a:solidFill>
                <a:latin typeface="Arial"/>
              </a:rPr>
              <a:t>/s/</a:t>
            </a: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face nice pencil book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tr  /tr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ree train truck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dr  /dr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dress driver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sh /∫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shirt wash shor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ch /t∫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child chair catc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k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school  Christma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dз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sandwic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tw /tw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two twil twenty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wh /w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white wheel what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/h/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who whose whom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ts /ts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jackets  kit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ds /dz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bird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元音组合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ai  /ei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wait  paint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ay /ei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may play day say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air /εə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air hair chai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al /ɔ: 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all small bal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ar /α: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farther farm car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ea /i: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meat please tea rea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1366920" y="2712960"/>
            <a:ext cx="1843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e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head bread ready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iə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theate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ear / iə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ear  hear  nea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εə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bea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ə: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eart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ee /i: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meet see bee feet jeep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eir / εə 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hei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er / ə 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worker teacher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ə: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he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ere /i ə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here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εə 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where ther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ew /ju: 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new  few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u: 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flew  grew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ight /ai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right high brigh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ir /ə: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bird girl shirt thirty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7572"/>
                </a:solidFill>
                <a:latin typeface="Arial"/>
              </a:rPr>
              <a:t>D</a:t>
            </a:r>
            <a:endParaRPr b="0" lang="en-US" sz="8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d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desk doll dog dad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oa /əu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boat co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ong /ɔŋ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long  song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oo /u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book foot good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u: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moon balloo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or / ɔ: /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short fork por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/ə: /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ord world work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oor /ɔ: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door  floo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ore /ɔ: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more store sor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ou / au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out house mout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our /ɔ: 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four   you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auə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ou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ow/ əu 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bowl  window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au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now cow flowe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oy /ɔi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boy  toy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ur / ə: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tur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i: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he she meet m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辅音组合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th /θ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thank  mout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ð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his that wit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tr  /tr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ree train truck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dr  /dr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dress driver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sh /∫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shirt wash shor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ch /t∫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child chair catc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k 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school  Christma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/ dз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sandwich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tw /tw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two twil twenty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wh /w/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white wheel what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/h/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who whose whom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ts /ts/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jackets  kit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02:30:22Z</dcterms:created>
  <dc:creator>雨林木风</dc:creator>
  <dc:description/>
  <dc:language>en-US</dc:language>
  <cp:lastModifiedBy>Microsoft</cp:lastModifiedBy>
  <dcterms:modified xsi:type="dcterms:W3CDTF">2012-08-18T02:12:34Z</dcterms:modified>
  <cp:revision>21</cp:revision>
  <dc:subject/>
  <dc:title>幻灯片 1</dc:title>
</cp:coreProperties>
</file>